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F631-A23E-4AC2-88E4-6400ED64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76B79-58C9-42E3-AE73-A10E083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21CB-5002-4083-AA33-D8B479DF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6DBB-22AF-406A-966A-3BA76B0B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192A-C602-42C1-9B65-17A6DECF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F7CF-B5E4-42F7-8071-80C31CD2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1EB3-4B23-40F5-986B-AF100029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420F-B792-432D-AB0E-0E6F9E5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7308-EB5C-424F-8D45-328AF504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BAE-F248-486F-9CB0-CDB9DDC2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6897-73BD-48CD-8F0C-65A3D48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64DD-52C3-48DE-B6AB-7622CC6E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874-4B3A-4543-B7C0-AC35F408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9534-AF53-40CD-B313-4E180F2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0247-8E3D-4509-8DF1-148D7BE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4F7-6AA1-4FBC-8269-9C79FD2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18EF-5B29-4A57-9D9C-0914851D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5296-2298-4DE6-93F1-07B4F75F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0971-6818-4827-AA6B-2A71D7B0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ACF1-863A-4F81-B154-87913AF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561E-75D2-4176-BA61-AE1D26E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5D8B-92A5-4792-96AC-46A4660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65430-ED48-47EB-8C1A-F10BD2C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034B-1C18-4431-8403-D4CC277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A6F4-9684-4717-AA8B-F69CFD77CF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B91-7C8E-4CFA-8291-3623A50879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Tahoma"/>
              </a:rPr>
              <a:t>What’s OPAC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allenpaupack Area High School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nline Catal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Non-fiction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000-2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orks/Technology/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3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c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400-6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/Pure Science/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7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7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2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graphy (Coll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+ First Three Letters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’s Last 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ory Collectio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C+ First Three Letters of author/editor/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iler/ti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Done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ow you know how to use OPAC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f you have any questions, please stop by the front desk and ask the helpful library staff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MPj03413440000[1]"/>
          <p:cNvPicPr/>
          <p:nvPr/>
        </p:nvPicPr>
        <p:blipFill>
          <a:blip r:embed="rId1"/>
          <a:stretch/>
        </p:blipFill>
        <p:spPr>
          <a:xfrm>
            <a:off x="4888080" y="1371600"/>
            <a:ext cx="3643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1f39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PAC is an acronym for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l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talog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use OPAC to locate library resour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MPj03960590000[1]"/>
          <p:cNvPicPr/>
          <p:nvPr/>
        </p:nvPicPr>
        <p:blipFill>
          <a:blip r:embed="rId1"/>
          <a:stretch/>
        </p:blipFill>
        <p:spPr>
          <a:xfrm>
            <a:off x="3535200" y="1689120"/>
            <a:ext cx="4791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ere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-on to any high school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elect the Library Men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lick on the OPAC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Object 6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610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CA" sz="3800" spc="-1" strike="noStrike">
                <a:solidFill>
                  <a:srgbClr val="ffffff"/>
                </a:solidFill>
                <a:latin typeface="Tahoma"/>
              </a:rPr>
              <a:t>Once you launch OPAC, 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you will see this screen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30a0">
                <a:alpha val="50000"/>
              </a:srgbClr>
            </a:outerShdw>
          </a:effectLst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Do you know the autho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57400" y="3276720"/>
            <a:ext cx="4800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the last na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the Author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82880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Are you looking for a particular topic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981080" y="3200400"/>
            <a:ext cx="54864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in the general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Subject or keyw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Let’s perform an Author Search for Stephanie Mey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447920" y="1523880"/>
            <a:ext cx="5943600" cy="4457880"/>
            <a:chOff x="1447920" y="1523880"/>
            <a:chExt cx="5943600" cy="4457880"/>
          </a:xfrm>
        </p:grpSpPr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594360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6"/>
            <p:cNvSpPr/>
            <p:nvPr/>
          </p:nvSpPr>
          <p:spPr>
            <a:xfrm>
              <a:off x="4896000" y="2447640"/>
              <a:ext cx="99036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3400560" y="2447640"/>
              <a:ext cx="120960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124680" y="2571480"/>
              <a:ext cx="961920" cy="466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2438280" y="1733400"/>
              <a:ext cx="799920" cy="304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6477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Type Meyer; click Auth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Information provided incl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Titles the library possess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Call numbe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Book status (Are the books In or Out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about a Subject Search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609480" y="990720"/>
            <a:ext cx="7086600" cy="4457520"/>
            <a:chOff x="609480" y="990720"/>
            <a:chExt cx="7086600" cy="4457520"/>
          </a:xfrm>
        </p:grpSpPr>
        <p:grpSp>
          <p:nvGrpSpPr>
            <p:cNvPr id="150" name="Group 9"/>
            <p:cNvGrpSpPr/>
            <p:nvPr/>
          </p:nvGrpSpPr>
          <p:grpSpPr>
            <a:xfrm>
              <a:off x="609480" y="990720"/>
              <a:ext cx="5943600" cy="4457520"/>
              <a:chOff x="609480" y="990720"/>
              <a:chExt cx="5943600" cy="4457520"/>
            </a:xfrm>
          </p:grpSpPr>
          <p:pic>
            <p:nvPicPr>
              <p:cNvPr id="151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990720"/>
                <a:ext cx="5943600" cy="44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Oval 11"/>
              <p:cNvSpPr/>
              <p:nvPr/>
            </p:nvSpPr>
            <p:spPr>
              <a:xfrm>
                <a:off x="1533240" y="1200240"/>
                <a:ext cx="714240" cy="285840"/>
              </a:xfrm>
              <a:prstGeom prst="ellipse">
                <a:avLst/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AutoShape 12"/>
              <p:cNvSpPr/>
              <p:nvPr/>
            </p:nvSpPr>
            <p:spPr>
              <a:xfrm>
                <a:off x="2700000" y="3124080"/>
                <a:ext cx="2548080" cy="1190520"/>
              </a:xfrm>
              <a:prstGeom prst="foldedCorner">
                <a:avLst>
                  <a:gd name="adj" fmla="val 12500"/>
                </a:avLst>
              </a:prstGeom>
              <a:solidFill>
                <a:srgbClr val="cf7b79">
                  <a:alpha val="30000"/>
                </a:srgbClr>
              </a:solidFill>
              <a:ln w="6480">
                <a:solidFill>
                  <a:srgbClr val="969696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9144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Cambria"/>
                  </a:rPr>
                  <a:t>Hmmm….Do I want a book about 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Dog Training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              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People who own dog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	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Funny dog storie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4" name="AutoShape 13"/>
              <p:cNvCxnSpPr/>
              <p:nvPr/>
            </p:nvCxnSpPr>
            <p:spPr>
              <a:xfrm flipH="1">
                <a:off x="1342440" y="3666600"/>
                <a:ext cx="1467360" cy="2916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5" name="AutoShape 14"/>
              <p:cNvCxnSpPr/>
              <p:nvPr/>
            </p:nvCxnSpPr>
            <p:spPr>
              <a:xfrm flipH="1" flipV="1">
                <a:off x="1580040" y="3542760"/>
                <a:ext cx="1695960" cy="30528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6" name="AutoShape 15"/>
              <p:cNvCxnSpPr/>
              <p:nvPr/>
            </p:nvCxnSpPr>
            <p:spPr>
              <a:xfrm flipH="1">
                <a:off x="1342080" y="4076280"/>
                <a:ext cx="2353320" cy="43884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  <p:sp>
          <p:nvSpPr>
            <p:cNvPr id="157" name="Rectangle 26"/>
            <p:cNvSpPr/>
            <p:nvPr/>
          </p:nvSpPr>
          <p:spPr>
            <a:xfrm>
              <a:off x="609480" y="1828800"/>
              <a:ext cx="7086600" cy="1523880"/>
            </a:xfrm>
            <a:prstGeom prst="rect">
              <a:avLst/>
            </a:prstGeom>
            <a:solidFill>
              <a:srgbClr val="892e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Use a Broad term or word for a subject search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When you perform a subject search for dog, you will see this lis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Next, you may need to Narrow your choice to a particular topic or resource type  (fiction, biography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But wait!</a:t>
            </a:r>
            <a:br>
              <a:rPr sz="4200"/>
            </a:b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How do I use “Call Numbers”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ll numbers are the address that tell you where the book lives in the libr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ook at the plaques’ numbers to locate the correct sh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opacpics 010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There it i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ften, books will have the sam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make it easier to locate a book, libraries assign a three letter code beneath th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ll books are filed first by their number, then alphabetically by the three letter co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9" descr="opacpics 018"/>
          <p:cNvPicPr/>
          <p:nvPr/>
        </p:nvPicPr>
        <p:blipFill>
          <a:blip r:embed="rId1"/>
          <a:stretch/>
        </p:blipFill>
        <p:spPr>
          <a:xfrm>
            <a:off x="228600" y="1523880"/>
            <a:ext cx="3890880" cy="291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Reference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ence Section (R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and Specialized Encycloped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nacs, Handbooks, Man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es, Foreign Language Dictionaries, Biograp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istories, Criticisms, Political Profiles, Statesman’s Year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5:09:21Z</dcterms:created>
  <dc:creator>mifriesen</dc:creator>
  <dc:description/>
  <dc:language>en-US</dc:language>
  <cp:lastModifiedBy>SAYLORRI</cp:lastModifiedBy>
  <dcterms:modified xsi:type="dcterms:W3CDTF">2008-11-12T16:45:42Z</dcterms:modified>
  <cp:revision>38</cp:revision>
  <dc:subject/>
  <dc:title>What’s OPAC?</dc:title>
</cp:coreProperties>
</file>